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0.jpeg" ContentType="image/jpeg"/>
  <Override PartName="/ppt/media/image12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1b54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EDC8-A964-4515-A0A4-EA02A0796D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EBDE-B04A-496C-8FA4-C548993C9079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factors are no longer about the building/district as a whole but about the individuals invol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1E4E-E916-4AF3-82F5-015D8DC6C656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ust activit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 of a person you truly admi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qualities does/did this person possess that makes you think so highly of him/h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F052-B294-4053-B540-ED3829F137D4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alibri"/>
                <a:ea typeface="Arial"/>
              </a:rPr>
              <a:t>Sense of caring &amp; respectfuln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buClr>
                <a:srgbClr val="c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alibri"/>
                <a:ea typeface="Arial"/>
              </a:rPr>
              <a:t>Valuing and treating others as import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alibri"/>
                <a:ea typeface="Arial"/>
              </a:rPr>
              <a:t>Belief in each oth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buClr>
                <a:srgbClr val="c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alibri"/>
                <a:ea typeface="Arial"/>
              </a:rPr>
              <a:t>Spirit of collegia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buClr>
                <a:srgbClr val="c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alibri"/>
                <a:ea typeface="Arial"/>
              </a:rPr>
              <a:t>Free of anxiety that others won’t d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alibri"/>
                <a:ea typeface="Arial"/>
              </a:rPr>
              <a:t>Commun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buClr>
                <a:srgbClr val="c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alibri"/>
                <a:ea typeface="Arial"/>
              </a:rPr>
              <a:t>O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buClr>
                <a:srgbClr val="c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alibri"/>
                <a:ea typeface="Arial"/>
              </a:rPr>
              <a:t>Gracefu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buClr>
                <a:srgbClr val="c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alibri"/>
                <a:ea typeface="Arial"/>
              </a:rPr>
              <a:t>Confidenti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alibri"/>
                <a:ea typeface="Arial"/>
              </a:rPr>
              <a:t>Physical clim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buClr>
                <a:srgbClr val="c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alibri"/>
                <a:ea typeface="Arial"/>
              </a:rPr>
              <a:t>Comfortable place to talk free of distra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alibri"/>
                <a:ea typeface="Arial"/>
              </a:rPr>
              <a:t>Social clim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buClr>
                <a:srgbClr val="c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alibri"/>
                <a:ea typeface="Arial"/>
              </a:rPr>
              <a:t>Welcoming of people &amp; ide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7F83-5D64-40CC-8129-8CCB881D3686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6ACB-ACE5-4B51-B94A-05E8E5AE4B14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into coaching where the level of trust is uncertain, begin with informal coaching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peer coaching – wheel – Take a minute to look at these.  Which have you do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9BFC-3D85-4753-9C94-EFFA46DC73F0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 wanted ads – does anybody have any ideas on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ening posts – 15 minutes to an hour:  a topic is assigned to different areas of the room to discu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k walking – based on the time-honored medical premise that seeking advice from colleagues is a solid professional deci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BCBC-512C-42C5-BA4D-694BF74820E3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what you’ve been doing in your teams has been formal coach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lready have a sense of trust in your team.  Chances are you already have clear communicatio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, communication is the factor most likely to undermine the coaching proc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6084-B8D7-4448-B9E7-95691D449EAF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igher the risk level of peer coaching activities, the more important communication beco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voice inflection and body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FE5D-5461-45F9-9AE5-F27F86541D8D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f-awareness – blind 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Clarifying Ques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ill you present the inform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students will be t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the students  be working in group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phrasing - Restate what was said to indicate acceptance, encouragement, and understan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ing for specificity Ques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the speaker to think more deeply about a top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often prefaced by a paraphr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open ended and do not carry a solution (better if the questioner does not have the answ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questions that help focus the speaker rather than satisfying coach's curio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ming - Reframing is seeing the current situation from a different perspective, which can be tremendously helpful in problem solving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ision making and learning. Reframing is helping you or another person to more constructively move on from a situation in which you or the other person feels stuck or confused.  “Have you had a similar situation where you found a solution?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communcation practice handout.  Complete.  Discu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F9DF-9184-4BA8-B1D3-287C0C47366D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Suzanne’s article about feedback with Grant Wiggins in NYC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ensure that what we’re providing is feedbac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lcwashington.org/site/default.aspx?PageType=3&amp;ModuleInstanceID=59&amp;ViewID=7b97f7ed-8e5e-4120-848f-a8b4987d588f&amp;RenderLoc=0&amp;FlexDataID=38&amp;PageID=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F0C3-FD0C-4879-BC55-A752503E7CD2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ol’s notes from the group’s last discu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8630-3CBA-47F5-8B0B-7AE1478607F0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Emphasize importance of communication techniques in the pre-confer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How do we determine what is to be observed 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  </a:t>
            </a: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elegant, realistic and significant way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What is the best time (portion of the lesson) for the observ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How long should the visit b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Where will the visitor s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Should the observer interact with stud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What is the learning objective for the less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Where in the developmental process is this group in relation to the learning targe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What types of information will the observer be looking for &amp; collect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How will that information be record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How will the collected information be us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 up post con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pre/post conference worksheet.  Choose a topic for observation.  Have one be teacher &amp; one observer.  Work through the pre-confer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E95B-3851-48D2-A588-02568213A140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These are ideas of what to look for in an observ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Setting – what are the cultural, economic, political, governmental, legal, &amp; social contexts in which the teaching is taking pla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Situation – Where is the teacher coming from in relation to the demands of the job?  Is the teacher a beginner, experienced but new to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  </a:t>
            </a: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setting?  Old &amp; burned out?  Working with a new bos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Structure – within what kind of an organization is the teacher working?  - dictatorial, autocratic, supportive, collaborative, autonomo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Style – what style of learning, behaving, &amp; leading best fits this teacher in this sett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Strategies – what are the models or ways of teaching the teacher uses to reach the goals that have been se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Skills – which explicit techniques (observable behaviors) does the teacher use to deal with stud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(similar to who, what, where, when, how &amp; why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C394-0804-43F9-832E-EE8C125CA32A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A7B6-9080-4951-A0C2-1B49DC4726FF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lear are my direct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kinds of questions do I direct to stud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I give all students equal atten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distribution of student talk/teacher talk in clas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kinds of verbal/non-verbal feedback do I give stud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my pacing too fast/too slow for the majority of my stud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sample areas of focus. Revie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87AA-A4A7-4704-9754-09D4010E542D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 Point is in Zion National P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observation tools.  Explain pract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which tools you’d use for wh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2DC9-8AD7-495B-BC6D-2FECD5CEBD9A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6FA9-3302-4CFE-A9F1-9F9532923B09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clarifying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en more, talk 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 Post Conference discussion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32FB-EC6B-41E6-B9BE-10595A9E121E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sit essential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DAC0-6F63-4400-A20D-43726C37436D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8FDE-386B-46CB-9449-59222DFF4A7D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rd is noticeably abs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make this definition our own.  What do you want it to s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351B-C087-4178-845D-A1597A668EEF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7A8F-05E6-4212-9A9E-D08C273C26EF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inctions between coaching &amp; eval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inute pause to talk to teams about the differences between coaching &amp; evaluatio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can it be confusing?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paper about coaching v. evalu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0810-FB4F-422D-8B29-8BBDA30B4D1A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 list of factors that will damage a school climate &amp; factors that will build/restore a school clim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list of these fa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691F-EB61-42EC-8745-DDA049C27BA0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25C4-170F-4B7A-AE0C-6CFBAF900489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rk do we have to do in each of our buildings to ensure we have a culture &amp; climate conducive to coach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C46E-904B-42CE-B1D4-28BA8DF03527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EB62-A3B8-47CF-9B2B-DB0D6EC78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3B87-D36A-440C-A513-D88359ED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C4966D-A559-4A68-81EF-00928A15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858B82-0991-49E3-AECF-A0F155C9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83DE89-5F6B-4077-AE43-8B5054AC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F967E4-1A0E-4FA2-BA9A-B21F1DFA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839762-2F87-47E1-95A8-54DF896B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B25B82-87D9-4D9B-A3F3-4F1241CB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226860-F466-4CBF-A1BB-5323A61F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149DC9-97CE-4931-B507-69CB83201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9E9BD6-2F81-4836-98F3-B5DFFFBA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1AEE80-E317-4767-9705-5F4F6A8C0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8DFD-391A-451B-AD8A-13DE333C6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E92454-F7FD-423F-A157-7E0F907A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2EFAD9-ED79-4E10-AF7A-44E70A5A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C58349-C21F-4EF2-8F34-3D670386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079B60-8D71-4353-AD88-F9E73AB2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ACE845-8C14-4891-AF7E-C27D4B7F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7F420C-89AD-4ED1-A8EB-BC3FB6F6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B59308-4199-422A-9577-797A3D72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3A3AD6-5777-411F-AE55-74623460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DEE929-9972-41D0-85ED-E290220F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5332E8-E52C-49EA-8151-01216340C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BE93-D523-4424-A6D6-D6E956257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8C061E-33A0-4D4C-9CBC-AA6CF6C72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AD9BB-43D1-4A24-BAC5-4DB884064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1868E-87A3-46A8-A2A4-55DBDF39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CFE9A-3B2A-4EBB-A4D0-F3BF04B4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48F91-F6CC-4714-BB46-2DEE10E6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E97BF-372D-445C-97F2-D61035A7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04EA1-F156-4E91-B335-BD6514F1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00D4D-3EA2-4D09-AC79-1FD83AF3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7244F-C6FD-4035-88CC-7BBFC4E9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ECEF2-4F50-47EE-AAC2-1FC970F6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7644-126D-4D0C-9A59-9AD04B382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79DB2-52A6-4999-AC08-3B3D4BC8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DFD77-A764-4242-A6B4-71206D35F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C454F-6EFD-4E0D-BA6D-7231D6D00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3E8656-8408-41E2-8CA8-9876ED457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1C1CFF-3806-444C-87E0-FEB74397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452AFC-9A33-41E9-9BFB-B2ED9D28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34CC80-5166-4D1B-A439-B9ECE437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F6BDF8-28CF-4AFF-81D7-93A43FF8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9C2730-CD91-4B34-AABA-C2B5F2BD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215F3A-155C-444D-92B3-727156DE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B62F-0D4B-4357-98E5-64C78099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B6375C-B909-4A07-A320-9C171412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242303-3B92-4921-8F69-9361ADDF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B40D6C-B763-4C9E-93AB-CB92D454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86445A-64B8-4784-9306-C5A4D0F0C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E0707E-3C09-4F8D-AAC1-9189EACD3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A216-2708-4F1B-9C05-5B5FF8B3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3FC3-E5AA-498F-A562-438FE762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47B3-2AD9-410A-91F9-C1DD2E0D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1DA7-8F33-47C1-8A98-3793DC6D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459B-EA58-4F94-A05A-0A488531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C7D1-4F58-4A31-A8EB-C1D001EB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8B6B-9C9A-4C56-9BF1-02EBA745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BDB5-54DF-492E-A910-9F30B81A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FE92-22A7-4EA7-8847-D60EFB66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8EF8-C63D-4D6C-8D44-BDCEF40FA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2CFE-F76C-44B6-91BC-032C1C98E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35452-A9E5-4F9E-A71A-43D4B1563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C0CF8-6FFD-46DA-87EC-08CD24DC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2AD8D-8CCD-4739-8E3B-F91D3DF0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1C95C-D07B-44CF-9949-E0985587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8879C-EDD9-4A5C-AF4D-2D99E688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047B-1FA7-46A8-A30F-DB929E9C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9D1E1-2F0C-493C-80F5-7A9A3882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A88FA-0640-4F10-8040-BFADD219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B1F8F-9A25-4F62-888A-FFE99337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5D530-7F7D-432C-BF8A-EA341E4B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9A9A7-6BAB-4A0C-AE51-C7BC2E70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6A9C7-3BE0-4D9C-B7FA-C034B005C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5CEE1-4FD8-4D8C-803B-0421D4C2C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E8D58-8E0E-4913-9E0B-A366DE4D9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552AA-0AEB-40F7-A77D-D3B353D8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FFD84-3599-4C93-A947-B3A44093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B7AF-E282-4B00-98F7-A45D2D93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327B6-740E-42C2-8A2D-6FB32C40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4C4DF-CF2C-4F53-8D3F-5B8A62BB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79FE0-F60A-4596-AEFF-01F5BD38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1E54B-DCD3-42FC-8CB8-D0436E65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7231C-35D6-43FE-A2BE-FE1DDFAC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4C345-9114-45D9-909B-BA53F991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F8FCE-1F57-46E0-B8F4-D0B67412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BBB80-6AAA-4F53-97E9-D8907B091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769DD-582C-4A78-8ED3-AF765504E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78FC4-2E60-4566-B4E9-C809C859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570D-2D22-499C-B4C0-781D1FE0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2AEB2-D327-44B1-9FA3-4F14BBD0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8720D-5DFE-4FEE-BD58-E10A4B10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5FFBC-027E-4939-982D-4093CC71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EC2E4-803A-4E89-AB53-7766C0D8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CD339-5A5D-4562-B5F9-1F95EFC6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C11A3-6EFF-43BC-9F38-58D7406B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06AFA-8DE9-4A42-9C65-C0109DC2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D81FD-E6F7-49D0-8BCD-BB264C87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17FFB-0CDC-491D-844B-9A976B5A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DBF0B-B02D-4C2A-91E0-B5078D152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6BBC-6FFB-4994-B246-2474DB43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6255C-4BFC-498F-8CE2-E9AA555CC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182DD-5456-4D46-A8F9-B792CD46E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FF479-DAD8-4805-AF53-9190AE84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D87B7-B777-4C79-84E3-20B737D5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2E924-B2E8-45EA-9140-53593C7A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570D2-5C6C-4F0D-BBED-EF4B7252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5CCE6-1540-441D-AD1A-2F926D70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0CB53-CEFF-41EC-B6DE-B52B2A95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5A5E3-9225-4FBB-A7B2-CF5E0B77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0C150-1F83-41CA-8429-7341FEA6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9128-C237-4859-BF5C-9C5DFEE1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D1925-5967-44D5-BA74-8C4D238D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19273-F48E-4AF6-A695-7E79D0292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83F8F-9FBC-4261-A424-EC558CD3B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6AD7F-29E9-409D-BDAC-1BAFAF6AD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F954D-9475-4ADA-83C6-0D65B7B4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09701-4585-4614-ACA3-20B75E69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FA4B1-4BCD-4C66-B36A-4799842C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9D754-654D-4341-BED4-B728FC9C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BE7F8-C32D-401E-AA1B-12E18F66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2B30F-6FF6-40A0-8CC5-F137F9D2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5627-D994-4BCD-AF92-C3070ED2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A722F-BA32-40C0-8005-AFCB0B39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3077D-CAE2-4346-97C7-94E1DFFD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3EFC9-B0FD-48A6-B88D-E13064CF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B69E0-9305-4D66-990A-5A6287C7E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9A00C-DA6F-45B2-9B98-9256049F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C1AC9-7321-4FC3-B99C-9DF25C30E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03B52-FA2E-4BA5-8F3C-F9574B49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4D5DF-21BF-487C-B816-C251265F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6F270-3DB1-43E9-AE78-CF26B40E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BD133-3CCF-4123-8C21-0BD0F02D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4586-6D6E-4CED-9BCE-DB3685F8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EB595-6F99-4834-AD96-76741DA6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D1D3B-1201-4997-8211-DC3A6036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BDF1B-3B4D-4563-AB2D-64FA428A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9D72C-C4F2-494A-B367-4C856F37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C7BA8-C94A-4585-9F2B-6817A552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E0A87-A8D9-401D-A884-4BA29A349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B9DD3-A0A3-4B32-A3D1-3A84CF653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5C0D3B-C25C-464D-A17D-9B2561C55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A4D904-43B9-4990-8EC7-D9CBD669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FF38FB-6431-44CC-918B-5023442C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ca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1b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01b5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1b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1b5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BE67-A5E3-4FAF-B454-3F0C8A054B40}" type="slidenum">
              <a:rPr b="0" lang="en-US" sz="1600" spc="-1" strike="noStrike">
                <a:solidFill>
                  <a:srgbClr val="001b5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1b54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5e3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206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ca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01b5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5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1b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1b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1b54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5e3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206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1b5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0B6E-8FDC-4343-A813-33F48EDF041C}" type="slidenum">
              <a:rPr b="0" lang="en-US" sz="1600" spc="-1" strike="noStrike">
                <a:solidFill>
                  <a:srgbClr val="001b5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1b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01b5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1b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1b54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5e3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206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1b5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9B37-2D3E-4780-ADCB-5C9433B44981}" type="slidenum">
              <a:rPr b="0" lang="en-US" sz="1600" spc="-1" strike="noStrike">
                <a:solidFill>
                  <a:srgbClr val="001b5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1b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001b5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1b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1b54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5e3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206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1b5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7018-AA75-4864-8A8D-BA40C411B493}" type="slidenum">
              <a:rPr b="0" lang="en-US" sz="1600" spc="-1" strike="noStrike">
                <a:solidFill>
                  <a:srgbClr val="001b5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001b5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01b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1b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1b54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5e3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206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1b5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4F8B-9A51-4CB1-BCDE-710788ED60AF}" type="slidenum">
              <a:rPr b="0" lang="en-US" sz="1600" spc="-1" strike="noStrike">
                <a:solidFill>
                  <a:srgbClr val="001b5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1b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01b5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1b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1b54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5e3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206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1b5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FFAB-DD7E-4F00-819E-37A088064D27}" type="slidenum">
              <a:rPr b="0" lang="en-US" sz="1600" spc="-1" strike="noStrike">
                <a:solidFill>
                  <a:srgbClr val="001b5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ca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5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01b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001b5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1b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1b54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5e3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206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1b5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3D6A-567A-43C7-9C4B-9E4F4A591AEF}" type="slidenum">
              <a:rPr b="0" lang="en-US" sz="1600" spc="-1" strike="noStrike">
                <a:solidFill>
                  <a:srgbClr val="001b5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1b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01b5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1b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32323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1b54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5e3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206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1b5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FDE8-8CFC-4EF5-BD8C-69AE39CD184E}" type="slidenum">
              <a:rPr b="0" lang="en-US" sz="1600" spc="-1" strike="noStrike">
                <a:solidFill>
                  <a:srgbClr val="001b5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32323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5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001b5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1b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1b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1b54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5e3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206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1b5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10E7-AF5F-47EE-9374-6C2D5204FD61}" type="slidenum">
              <a:rPr b="0" lang="en-US" sz="1600" spc="-1" strike="noStrike">
                <a:solidFill>
                  <a:srgbClr val="001b5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ca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1b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01b5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1b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1b54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5e3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206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1b5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5540-00B4-4ECC-951D-438A73CF784E}" type="slidenum">
              <a:rPr b="0" lang="en-US" sz="1600" spc="-1" strike="noStrike">
                <a:solidFill>
                  <a:srgbClr val="001b5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ca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001b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1b54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5e3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206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3D05-2B7D-4424-9999-8D7ADFAF5A3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ca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5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01b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01b5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1b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1b54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5e3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206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1b5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1F48-E4AD-4F97-8A2D-78C682E0B616}" type="slidenum">
              <a:rPr b="0" lang="en-US" sz="1600" spc="-1" strike="noStrike">
                <a:solidFill>
                  <a:srgbClr val="001b5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8397"/>
            </a:gs>
            <a:gs pos="100000">
              <a:srgbClr val="d2e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2971800" y="2895480"/>
            <a:ext cx="3211560" cy="221004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Instructional Coaching</a:t>
            </a:r>
            <a:br>
              <a:rPr sz="4200"/>
            </a:b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The QCSD Model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615" name="TextBox 3"/>
          <p:cNvSpPr/>
          <p:nvPr/>
        </p:nvSpPr>
        <p:spPr>
          <a:xfrm>
            <a:off x="2895480" y="556272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Georgia"/>
              </a:rPr>
              <a:t>April 2, 2012</a:t>
            </a: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Coaching Readiness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647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  <p:sp>
        <p:nvSpPr>
          <p:cNvPr id="648" name="TextBox 9"/>
          <p:cNvSpPr/>
          <p:nvPr/>
        </p:nvSpPr>
        <p:spPr>
          <a:xfrm>
            <a:off x="304920" y="2514600"/>
            <a:ext cx="8458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</a:rPr>
              <a:t>Characteristics of a teacher ready for peer coaching: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</a:rPr>
              <a:t>Believes in the benefits of coaching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</a:rPr>
              <a:t>Knows that it is okay to make mistakes, is a reasonable risk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</a:rPr>
              <a:t>  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</a:rPr>
              <a:t>taker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</a:rPr>
              <a:t>Is open to learning and using a variety of learning models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</a:rPr>
              <a:t>Works with a partner with whom they share trust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</a:rPr>
              <a:t>Is committed to seeking and trying new strategies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</a:rPr>
              <a:t>Trusts the principal to not micromanage coaching process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</a:rPr>
              <a:t>Possesses the “Why not?” attitude</a:t>
            </a: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/>
          </p:nvPr>
        </p:nvSpPr>
        <p:spPr>
          <a:xfrm>
            <a:off x="456840" y="265716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Georgia"/>
                <a:ea typeface="Arial"/>
              </a:rPr>
              <a:t>The state of readiness for unguarded interaction with someone or something.</a:t>
            </a:r>
            <a:endParaRPr b="0" lang="en-US" sz="32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What is Trust?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651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2" descr="http://t1.gstatic.com/images?q=tbn:ANd9GcSLp_RYAUjLHTn507nnURIzfiX9y-hL7yCpWZyc9goEdkSoPXHepAltc_OgeA"/>
          <p:cNvPicPr/>
          <p:nvPr/>
        </p:nvPicPr>
        <p:blipFill>
          <a:blip r:embed="rId2"/>
          <a:stretch/>
        </p:blipFill>
        <p:spPr>
          <a:xfrm>
            <a:off x="5715000" y="434340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152280" y="2743200"/>
            <a:ext cx="8686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47560" indent="-272880" algn="r">
              <a:spcBef>
                <a:spcPts val="700"/>
              </a:spcBef>
              <a:buClr>
                <a:srgbClr val="c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Sense of caring &amp; respectfulness</a:t>
            </a:r>
            <a:endParaRPr b="0" lang="en-US" sz="28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-272880" algn="r">
              <a:spcBef>
                <a:spcPts val="700"/>
              </a:spcBef>
              <a:buClr>
                <a:srgbClr val="c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Belief in each other</a:t>
            </a:r>
            <a:endParaRPr b="0" lang="en-US" sz="28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-272880" algn="r">
              <a:spcBef>
                <a:spcPts val="700"/>
              </a:spcBef>
              <a:buClr>
                <a:srgbClr val="c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Communications</a:t>
            </a:r>
            <a:endParaRPr b="0" lang="en-US" sz="28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-272880" algn="r">
              <a:spcBef>
                <a:spcPts val="700"/>
              </a:spcBef>
              <a:buClr>
                <a:srgbClr val="c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Physical climate</a:t>
            </a:r>
            <a:endParaRPr b="0" lang="en-US" sz="28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-272880" algn="r">
              <a:spcBef>
                <a:spcPts val="700"/>
              </a:spcBef>
              <a:buClr>
                <a:srgbClr val="c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Social climate</a:t>
            </a:r>
            <a:endParaRPr b="0" lang="en-US" sz="2800" spc="-1" strike="noStrike">
              <a:solidFill>
                <a:srgbClr val="323232"/>
              </a:solidFill>
              <a:latin typeface="Georgi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Developing Trust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655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" descr="http://blog.huddle.net/wp-content/uploads/2009/08/Working_Together_Teamwork_and-team-building-exercises.jpg"/>
          <p:cNvPicPr/>
          <p:nvPr/>
        </p:nvPicPr>
        <p:blipFill>
          <a:blip r:embed="rId2"/>
          <a:stretch/>
        </p:blipFill>
        <p:spPr>
          <a:xfrm>
            <a:off x="304920" y="3200400"/>
            <a:ext cx="309708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152280" y="2666520"/>
            <a:ext cx="8839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An excellent form of job-embedded PD as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encouraged by Learning Forward Standards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Relies on multiple strategies that research shows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lead to instructional improvement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It keeps PD fresh because it’s constantly changing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Teachers who feel enabled and supported to  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 </a:t>
            </a:r>
            <a:r>
              <a:rPr b="0" lang="en-US" sz="2600" spc="-1" strike="noStrike">
                <a:solidFill>
                  <a:srgbClr val="c00000"/>
                </a:solidFill>
                <a:latin typeface="Georgia"/>
                <a:ea typeface="Arial"/>
              </a:rPr>
              <a:t>succeed are more committed and effective.</a:t>
            </a:r>
            <a:endParaRPr b="0" lang="en-US" sz="26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title"/>
          </p:nvPr>
        </p:nvSpPr>
        <p:spPr>
          <a:xfrm>
            <a:off x="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Why Use Instructional</a:t>
            </a:r>
            <a:br>
              <a:rPr sz="4200"/>
            </a:b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 Coaching?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659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/>
          </p:nvPr>
        </p:nvSpPr>
        <p:spPr>
          <a:xfrm>
            <a:off x="152280" y="2666520"/>
            <a:ext cx="8839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 lvl="1" marL="547560" indent="-272880">
              <a:spcBef>
                <a:spcPts val="649"/>
              </a:spcBef>
              <a:buClr>
                <a:srgbClr val="c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Georgia"/>
                <a:ea typeface="Arial"/>
              </a:rPr>
              <a:t>Trust building coaching activities that do not involve classroom observations.</a:t>
            </a:r>
            <a:endParaRPr b="0" lang="en-US" sz="26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-272880">
              <a:spcBef>
                <a:spcPts val="649"/>
              </a:spcBef>
              <a:buClr>
                <a:srgbClr val="c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Georgia"/>
                <a:ea typeface="Arial"/>
              </a:rPr>
              <a:t>Most informal activities are designed to engage colleagues in conversations about what enhances teaching .</a:t>
            </a:r>
            <a:endParaRPr b="0" lang="en-US" sz="26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-272880">
              <a:spcBef>
                <a:spcPts val="649"/>
              </a:spcBef>
              <a:buClr>
                <a:srgbClr val="c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Georgia"/>
                <a:ea typeface="Arial"/>
              </a:rPr>
              <a:t>Can be planning, implementation or follow-up.</a:t>
            </a:r>
            <a:endParaRPr b="0" lang="en-US" sz="2600" spc="-1" strike="noStrike">
              <a:solidFill>
                <a:srgbClr val="323232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 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 lvl="1" marL="5475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3232"/>
              </a:solidFill>
              <a:latin typeface="Georgi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title"/>
          </p:nvPr>
        </p:nvSpPr>
        <p:spPr>
          <a:xfrm>
            <a:off x="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Informal Coaching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662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/>
          </p:nvPr>
        </p:nvSpPr>
        <p:spPr>
          <a:xfrm>
            <a:off x="304560" y="2666520"/>
            <a:ext cx="8839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Swap meet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 lvl="1" marL="547560" indent="-272880">
              <a:spcBef>
                <a:spcPts val="649"/>
              </a:spcBef>
              <a:buClr>
                <a:srgbClr val="c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Georgia"/>
                <a:ea typeface="Arial"/>
              </a:rPr>
              <a:t>Lowest risk – share effective curricular materials</a:t>
            </a:r>
            <a:endParaRPr b="0" lang="en-US" sz="26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-272880">
              <a:spcBef>
                <a:spcPts val="649"/>
              </a:spcBef>
              <a:buClr>
                <a:srgbClr val="c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Georgia"/>
                <a:ea typeface="Arial"/>
              </a:rPr>
              <a:t>Low risk – swap lesson ideas</a:t>
            </a:r>
            <a:endParaRPr b="0" lang="en-US" sz="26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-272880">
              <a:spcBef>
                <a:spcPts val="649"/>
              </a:spcBef>
              <a:buClr>
                <a:srgbClr val="c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Georgia"/>
                <a:ea typeface="Arial"/>
              </a:rPr>
              <a:t>Higher rick – swap classes</a:t>
            </a:r>
            <a:endParaRPr b="0" lang="en-US" sz="2600" spc="-1" strike="noStrike">
              <a:solidFill>
                <a:srgbClr val="323232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Help wanted ads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Listening posts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Talk walking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 lvl="1" marL="5475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3232"/>
              </a:solidFill>
              <a:latin typeface="Georgi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title"/>
          </p:nvPr>
        </p:nvSpPr>
        <p:spPr>
          <a:xfrm>
            <a:off x="0" y="456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Low Risk Coaching </a:t>
            </a:r>
            <a:br>
              <a:rPr sz="4200"/>
            </a:b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Activities to Build Trust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665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2" descr="http://www.billsqualityautocare.com/wp-content/uploads/2009/07/listening-ear.gif"/>
          <p:cNvPicPr/>
          <p:nvPr/>
        </p:nvPicPr>
        <p:blipFill>
          <a:blip r:embed="rId2"/>
          <a:stretch/>
        </p:blipFill>
        <p:spPr>
          <a:xfrm>
            <a:off x="6472080" y="3809880"/>
            <a:ext cx="237816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/>
          </p:nvPr>
        </p:nvSpPr>
        <p:spPr>
          <a:xfrm>
            <a:off x="152280" y="2666520"/>
            <a:ext cx="8839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Georgia"/>
            </a:endParaRPr>
          </a:p>
          <a:p>
            <a:pPr lvl="1" marL="547560" indent="-272880">
              <a:spcBef>
                <a:spcPts val="799"/>
              </a:spcBef>
              <a:buClr>
                <a:srgbClr val="c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Georgia"/>
                <a:ea typeface="Arial"/>
              </a:rPr>
              <a:t>Pre-conference</a:t>
            </a:r>
            <a:endParaRPr b="0" lang="en-US" sz="32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-272880">
              <a:spcBef>
                <a:spcPts val="799"/>
              </a:spcBef>
              <a:buClr>
                <a:srgbClr val="c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Georgia"/>
                <a:ea typeface="Arial"/>
              </a:rPr>
              <a:t>Observation</a:t>
            </a:r>
            <a:endParaRPr b="0" lang="en-US" sz="32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-272880">
              <a:spcBef>
                <a:spcPts val="799"/>
              </a:spcBef>
              <a:buClr>
                <a:srgbClr val="c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Georgia"/>
                <a:ea typeface="Arial"/>
              </a:rPr>
              <a:t>Post conference</a:t>
            </a:r>
            <a:endParaRPr b="0" lang="en-US" sz="3200" spc="-1" strike="noStrike">
              <a:solidFill>
                <a:srgbClr val="323232"/>
              </a:solidFill>
              <a:latin typeface="Georg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Georgia"/>
                <a:ea typeface="Arial"/>
              </a:rPr>
              <a:t>  </a:t>
            </a:r>
            <a:endParaRPr b="0" lang="en-US" sz="3200" spc="-1" strike="noStrike">
              <a:solidFill>
                <a:srgbClr val="002060"/>
              </a:solidFill>
              <a:latin typeface="Georgia"/>
            </a:endParaRPr>
          </a:p>
          <a:p>
            <a:pPr lvl="1" marL="5475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3232"/>
              </a:solidFill>
              <a:latin typeface="Georgi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title"/>
          </p:nvPr>
        </p:nvSpPr>
        <p:spPr>
          <a:xfrm>
            <a:off x="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Formal Coaching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669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/>
          </p:nvPr>
        </p:nvSpPr>
        <p:spPr>
          <a:xfrm>
            <a:off x="152280" y="2666520"/>
            <a:ext cx="8839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Physical &amp; emotional</a:t>
            </a:r>
            <a:endParaRPr b="0" lang="en-US" sz="28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Critical for learning &amp; growth</a:t>
            </a:r>
            <a:endParaRPr b="0" lang="en-US" sz="28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Key to developing trust</a:t>
            </a:r>
            <a:endParaRPr b="0" lang="en-US" sz="28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The means by which we establish, maintain</a:t>
            </a:r>
            <a:endParaRPr b="0" lang="en-US" sz="2800" spc="-1" strike="noStrike">
              <a:solidFill>
                <a:srgbClr val="002060"/>
              </a:solidFill>
              <a:latin typeface="Georg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  </a:t>
            </a: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&amp; destroy relationships.</a:t>
            </a:r>
            <a:endParaRPr b="0" lang="en-US" sz="2800" spc="-1" strike="noStrike">
              <a:solidFill>
                <a:srgbClr val="00206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 lvl="1" marL="5475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3232"/>
              </a:solidFill>
              <a:latin typeface="Georgi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title"/>
          </p:nvPr>
        </p:nvSpPr>
        <p:spPr>
          <a:xfrm>
            <a:off x="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Communication is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672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3" descr=""/>
          <p:cNvPicPr/>
          <p:nvPr/>
        </p:nvPicPr>
        <p:blipFill>
          <a:blip r:embed="rId2"/>
          <a:stretch/>
        </p:blipFill>
        <p:spPr>
          <a:xfrm>
            <a:off x="1082520" y="5232240"/>
            <a:ext cx="705492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/>
          </p:nvPr>
        </p:nvSpPr>
        <p:spPr>
          <a:xfrm>
            <a:off x="152280" y="2666520"/>
            <a:ext cx="8839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>
              <a:spcBef>
                <a:spcPts val="700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Self-awareness – presuppositions</a:t>
            </a:r>
            <a:endParaRPr b="0" lang="en-US" sz="28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Clarifying</a:t>
            </a:r>
            <a:endParaRPr b="0" lang="en-US" sz="28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Paraphrasing </a:t>
            </a:r>
            <a:endParaRPr b="0" lang="en-US" sz="28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Probing for specificity</a:t>
            </a:r>
            <a:endParaRPr b="0" lang="en-US" sz="28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Reframing</a:t>
            </a:r>
            <a:endParaRPr b="0" lang="en-US" sz="28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Listening -reciprocity</a:t>
            </a:r>
            <a:endParaRPr b="0" lang="en-US" sz="2800" spc="-1" strike="noStrike">
              <a:solidFill>
                <a:srgbClr val="002060"/>
              </a:solidFill>
              <a:latin typeface="Georgia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 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 lvl="1" marL="48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Georgi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title"/>
          </p:nvPr>
        </p:nvSpPr>
        <p:spPr>
          <a:xfrm>
            <a:off x="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Communication Techniques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676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/>
          </p:nvPr>
        </p:nvSpPr>
        <p:spPr>
          <a:xfrm>
            <a:off x="152280" y="2666520"/>
            <a:ext cx="8839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315360" indent="-315360">
              <a:spcBef>
                <a:spcPts val="700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Feedback – We often confuse </a:t>
            </a:r>
            <a:endParaRPr b="0" lang="en-US" sz="2800" spc="-1" strike="noStrike">
              <a:solidFill>
                <a:srgbClr val="002060"/>
              </a:solidFill>
              <a:latin typeface="Georgi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    </a:t>
            </a: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feedback with its brothers </a:t>
            </a:r>
            <a:endParaRPr b="0" lang="en-US" sz="2800" spc="-1" strike="noStrike">
              <a:solidFill>
                <a:srgbClr val="002060"/>
              </a:solidFill>
              <a:latin typeface="Georgi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    – </a:t>
            </a: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praise, blame and advice.</a:t>
            </a:r>
            <a:endParaRPr b="0" lang="en-US" sz="2800" spc="-1" strike="noStrike">
              <a:solidFill>
                <a:srgbClr val="002060"/>
              </a:solidFill>
              <a:latin typeface="Georgia"/>
            </a:endParaRPr>
          </a:p>
          <a:p>
            <a:pPr marL="315360" indent="-315360">
              <a:spcBef>
                <a:spcPts val="700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Feedback should promote </a:t>
            </a:r>
            <a:endParaRPr b="0" lang="en-US" sz="2800" spc="-1" strike="noStrike">
              <a:solidFill>
                <a:srgbClr val="002060"/>
              </a:solidFill>
              <a:latin typeface="Georgi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    </a:t>
            </a: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goal-setting and self-</a:t>
            </a:r>
            <a:endParaRPr b="0" lang="en-US" sz="2800" spc="-1" strike="noStrike">
              <a:solidFill>
                <a:srgbClr val="002060"/>
              </a:solidFill>
              <a:latin typeface="Georgi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    </a:t>
            </a: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assessment.</a:t>
            </a:r>
            <a:endParaRPr b="0" lang="en-US" sz="2800" spc="-1" strike="noStrike">
              <a:solidFill>
                <a:srgbClr val="002060"/>
              </a:solidFill>
              <a:latin typeface="Georgia"/>
            </a:endParaRPr>
          </a:p>
          <a:p>
            <a:pPr marL="315360" indent="-315360">
              <a:spcBef>
                <a:spcPts val="700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Asking those probing questions.</a:t>
            </a:r>
            <a:endParaRPr b="0" lang="en-US" sz="2800" spc="-1" strike="noStrike">
              <a:solidFill>
                <a:srgbClr val="002060"/>
              </a:solidFill>
              <a:latin typeface="Georgi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Georgi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Georgi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  </a:t>
            </a:r>
            <a:endParaRPr b="0" lang="en-US" sz="2800" spc="-1" strike="noStrike">
              <a:solidFill>
                <a:srgbClr val="002060"/>
              </a:solidFill>
              <a:latin typeface="Georgia"/>
            </a:endParaRPr>
          </a:p>
          <a:p>
            <a:pPr lvl="1" marL="377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Georgi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title"/>
          </p:nvPr>
        </p:nvSpPr>
        <p:spPr>
          <a:xfrm>
            <a:off x="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Communication Techniques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679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http://3.bp.blogspot.com/-PN5GH6ZzVgU/T1J6M7psBwI/AAAAAAAAALU/pwkIAQMoFFI/s1600/feedback.jpg"/>
          <p:cNvPicPr/>
          <p:nvPr/>
        </p:nvPicPr>
        <p:blipFill>
          <a:blip r:embed="rId2"/>
          <a:stretch/>
        </p:blipFill>
        <p:spPr>
          <a:xfrm>
            <a:off x="6135840" y="3191040"/>
            <a:ext cx="28335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152280" y="27432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47560" indent="-272880">
              <a:spcBef>
                <a:spcPts val="649"/>
              </a:spcBef>
              <a:buClr>
                <a:srgbClr val="c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Georgia"/>
                <a:ea typeface="Arial"/>
              </a:rPr>
              <a:t>How do we create a culture of coaching?</a:t>
            </a:r>
            <a:endParaRPr b="0" lang="en-US" sz="26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-272880">
              <a:spcBef>
                <a:spcPts val="649"/>
              </a:spcBef>
              <a:buClr>
                <a:srgbClr val="c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Georgia"/>
                <a:ea typeface="Arial"/>
              </a:rPr>
              <a:t>How can trust be established &amp; nurtured in professional relationships?</a:t>
            </a:r>
            <a:endParaRPr b="0" lang="en-US" sz="26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-272880">
              <a:spcBef>
                <a:spcPts val="649"/>
              </a:spcBef>
              <a:buClr>
                <a:srgbClr val="c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Georgia"/>
                <a:ea typeface="Arial"/>
              </a:rPr>
              <a:t>How do we give feedback that is specific &amp; descriptive (not general &amp; evaluative)? How do we bring expertise without posing as the expert?</a:t>
            </a:r>
            <a:endParaRPr b="0" lang="en-US" sz="26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-272880">
              <a:spcBef>
                <a:spcPts val="649"/>
              </a:spcBef>
              <a:buClr>
                <a:srgbClr val="c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Georgia"/>
                <a:ea typeface="Arial"/>
              </a:rPr>
              <a:t>How do we determine what is to be observed in elegant, realistic &amp; significant ways?</a:t>
            </a:r>
            <a:endParaRPr b="0" lang="en-US" sz="2600" spc="-1" strike="noStrike">
              <a:solidFill>
                <a:srgbClr val="323232"/>
              </a:solidFill>
              <a:latin typeface="Georgia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Essential Questions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618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/>
          </p:nvPr>
        </p:nvSpPr>
        <p:spPr>
          <a:xfrm>
            <a:off x="304560" y="2514600"/>
            <a:ext cx="8839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Builds rapport between professionals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Establishes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Georgia"/>
                <a:ea typeface="Arial"/>
              </a:rPr>
              <a:t>purpose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of observation. 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 lvl="1" marL="509040" indent="-253440">
              <a:spcBef>
                <a:spcPts val="601"/>
              </a:spcBef>
              <a:buClr>
                <a:srgbClr val="c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Teacher provides observer with pertinent information about the class, students &amp; plan.</a:t>
            </a:r>
            <a:endParaRPr b="0" lang="en-US" sz="2400" spc="-1" strike="noStrike">
              <a:solidFill>
                <a:srgbClr val="323232"/>
              </a:solidFill>
              <a:latin typeface="Georgia"/>
            </a:endParaRPr>
          </a:p>
          <a:p>
            <a:pPr lvl="1" marL="509040" indent="-253440">
              <a:spcBef>
                <a:spcPts val="601"/>
              </a:spcBef>
              <a:buClr>
                <a:srgbClr val="c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Teacher &amp; observer may collaborate on the observation focus.</a:t>
            </a:r>
            <a:endParaRPr b="0" lang="en-US" sz="2400" spc="-1" strike="noStrike">
              <a:solidFill>
                <a:srgbClr val="323232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Establishes how &amp; when the observation will be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conducted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Determines type of data to be collected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title"/>
          </p:nvPr>
        </p:nvSpPr>
        <p:spPr>
          <a:xfrm>
            <a:off x="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Pre-Conference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683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/>
          </p:nvPr>
        </p:nvSpPr>
        <p:spPr>
          <a:xfrm>
            <a:off x="609480" y="2666520"/>
            <a:ext cx="83822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Setting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Situation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Structure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Style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Strategies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Skills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title"/>
          </p:nvPr>
        </p:nvSpPr>
        <p:spPr>
          <a:xfrm>
            <a:off x="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Framework for Analyzing Teaching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686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2" descr="http://www.qcommservices.com/blog/wp-content/uploads/2012/01/framework1.jpg"/>
          <p:cNvPicPr/>
          <p:nvPr/>
        </p:nvPicPr>
        <p:blipFill>
          <a:blip r:embed="rId2"/>
          <a:stretch/>
        </p:blipFill>
        <p:spPr>
          <a:xfrm>
            <a:off x="3935520" y="2666880"/>
            <a:ext cx="44701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152280" y="2666520"/>
            <a:ext cx="8839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Teacher-student interactions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Student on-task time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Verbal flow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Teacher proximity to students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Wait time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Questioning Skills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Reinforcement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Use of motivation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Focus of Observation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690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4" descr="http://mayogenuine.com/images_blog/examine.png"/>
          <p:cNvPicPr/>
          <p:nvPr/>
        </p:nvPicPr>
        <p:blipFill>
          <a:blip r:embed="rId2"/>
          <a:stretch/>
        </p:blipFill>
        <p:spPr>
          <a:xfrm>
            <a:off x="6218280" y="2819520"/>
            <a:ext cx="266688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/>
          </p:nvPr>
        </p:nvSpPr>
        <p:spPr>
          <a:xfrm>
            <a:off x="152280" y="2666520"/>
            <a:ext cx="8839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Instructional techniques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Curriculum approaches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Teacher expectations/student achievement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Active participation techniques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Gender expectation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Particular child or small group focus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Focus of Observation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694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152280" y="2666520"/>
            <a:ext cx="8839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Selective Verbatim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Verbal Flow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At Task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Class Traffic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Interaction Analysis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Interaction Timeline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Global Scan Anecdotal Record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Observation Tools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697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2" descr="http://t3.gstatic.com/images?q=tbn:ANd9GcQ8U8S-Y8vckLIwqt5X90RTuvY322TfIsasM9psu_B1DJzBqQgJqxB_hQoN"/>
          <p:cNvPicPr/>
          <p:nvPr/>
        </p:nvPicPr>
        <p:blipFill>
          <a:blip r:embed="rId2"/>
          <a:stretch/>
        </p:blipFill>
        <p:spPr>
          <a:xfrm>
            <a:off x="5497560" y="2819520"/>
            <a:ext cx="335268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/>
          </p:nvPr>
        </p:nvSpPr>
        <p:spPr>
          <a:xfrm>
            <a:off x="152280" y="2666520"/>
            <a:ext cx="8839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Physics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English 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Math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Cold Calling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Social Studies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iPad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Sample Lessons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701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/>
          </p:nvPr>
        </p:nvSpPr>
        <p:spPr>
          <a:xfrm>
            <a:off x="304560" y="2437920"/>
            <a:ext cx="8839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Ideally conducted later the same day or the next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day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Start by debriefing – reviewing observation goals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Give the teacher the collected data – simply hold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up the mirror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Promote reflection – ask probing questions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PC provides feedback about practice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PC generates action plans for the future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PC motivates participants moving forward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Post Conference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704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/>
          </p:nvPr>
        </p:nvSpPr>
        <p:spPr>
          <a:xfrm>
            <a:off x="152280" y="2666520"/>
            <a:ext cx="8839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Where do we go from here?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What does next year look like?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What do the next few years look like?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How do we roll this out to maintain the integrity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of the process and the value of the product?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What does training look like for all participants? 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How do we make this system manageable for all?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Next Steps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707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152280" y="2743200"/>
            <a:ext cx="8686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509040" indent="-253440">
              <a:spcBef>
                <a:spcPts val="649"/>
              </a:spcBef>
              <a:buClr>
                <a:srgbClr val="c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Georgia"/>
                <a:ea typeface="Arial"/>
              </a:rPr>
              <a:t>How do we create appropriate observation protocols? </a:t>
            </a:r>
            <a:endParaRPr b="0" lang="en-US" sz="2600" spc="-1" strike="noStrike">
              <a:solidFill>
                <a:srgbClr val="323232"/>
              </a:solidFill>
              <a:latin typeface="Georgia"/>
            </a:endParaRPr>
          </a:p>
          <a:p>
            <a:pPr lvl="1" marL="509040" indent="-253440">
              <a:spcBef>
                <a:spcPts val="649"/>
              </a:spcBef>
              <a:buClr>
                <a:srgbClr val="c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Georgia"/>
                <a:ea typeface="Arial"/>
              </a:rPr>
              <a:t>How do we gather the data? What is data collection?</a:t>
            </a:r>
            <a:endParaRPr b="0" lang="en-US" sz="2600" spc="-1" strike="noStrike">
              <a:solidFill>
                <a:srgbClr val="323232"/>
              </a:solidFill>
              <a:latin typeface="Georgia"/>
            </a:endParaRPr>
          </a:p>
          <a:p>
            <a:pPr lvl="1" marL="509040" indent="-253440">
              <a:spcBef>
                <a:spcPts val="649"/>
              </a:spcBef>
              <a:buClr>
                <a:srgbClr val="c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Georgia"/>
                <a:ea typeface="Arial"/>
              </a:rPr>
              <a:t>How do we promote reflective practice?</a:t>
            </a:r>
            <a:endParaRPr b="0" lang="en-US" sz="2600" spc="-1" strike="noStrike">
              <a:solidFill>
                <a:srgbClr val="323232"/>
              </a:solidFill>
              <a:latin typeface="Georgia"/>
            </a:endParaRPr>
          </a:p>
          <a:p>
            <a:pPr lvl="1" marL="509040" indent="-253440">
              <a:spcBef>
                <a:spcPts val="649"/>
              </a:spcBef>
              <a:buClr>
                <a:srgbClr val="c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Georgia"/>
                <a:ea typeface="Arial"/>
              </a:rPr>
              <a:t>How do we decide &amp; implement literacy &amp; peer-coaching practices that are appropriate, valuable &amp; accessible district-wide?</a:t>
            </a:r>
            <a:endParaRPr b="0" lang="en-US" sz="2600" spc="-1" strike="noStrike">
              <a:solidFill>
                <a:srgbClr val="323232"/>
              </a:solidFill>
              <a:latin typeface="Georgia"/>
            </a:endParaRPr>
          </a:p>
          <a:p>
            <a:pPr lvl="1" marL="509040" indent="-253440">
              <a:spcBef>
                <a:spcPts val="649"/>
              </a:spcBef>
              <a:buClr>
                <a:srgbClr val="c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Georgia"/>
                <a:ea typeface="Arial"/>
              </a:rPr>
              <a:t>How do we make this process manageable?</a:t>
            </a:r>
            <a:endParaRPr b="0" lang="en-US" sz="2600" spc="-1" strike="noStrike">
              <a:solidFill>
                <a:srgbClr val="323232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Essential Questions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621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Peer coaching is a non-evaluative, non-judgmental process through which colleagues provide one another with feedback, to promote self-reflection. The goal is to improve teacher effectiveness, create a collaborative culture and ultimately enhance student learning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Coaching Defined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624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380520" y="2743200"/>
            <a:ext cx="64803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Specific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Georgia"/>
                <a:ea typeface="Arial"/>
              </a:rPr>
              <a:t>not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general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Professional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Georgia"/>
                <a:ea typeface="Arial"/>
              </a:rPr>
              <a:t>not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social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Collegial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Georgia"/>
                <a:ea typeface="Arial"/>
              </a:rPr>
              <a:t>not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competitive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Helping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Georgia"/>
                <a:ea typeface="Arial"/>
              </a:rPr>
              <a:t>not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evaluative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Confidential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Georgia"/>
                <a:ea typeface="Arial"/>
              </a:rPr>
              <a:t>not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public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Dynamic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Georgia"/>
                <a:ea typeface="Arial"/>
              </a:rPr>
              <a:t>not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static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What it is…and isn’t: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627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  <p:pic>
        <p:nvPicPr>
          <p:cNvPr id="628" name="Rectangle 7" descr=""/>
          <p:cNvPicPr/>
          <p:nvPr/>
        </p:nvPicPr>
        <p:blipFill>
          <a:blip r:embed="rId2"/>
          <a:stretch/>
        </p:blipFill>
        <p:spPr>
          <a:xfrm>
            <a:off x="5559480" y="3962520"/>
            <a:ext cx="3371760" cy="7128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2" descr="http://paraduxmedia.com/wp-content/uploads/2011/01/no-sign-md.png"/>
          <p:cNvPicPr/>
          <p:nvPr/>
        </p:nvPicPr>
        <p:blipFill>
          <a:blip r:embed="rId3"/>
          <a:stretch/>
        </p:blipFill>
        <p:spPr>
          <a:xfrm>
            <a:off x="5562720" y="274320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Equity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Choice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Voice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Dialogue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Reflection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Praxis 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Reciprocity 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It Involves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632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" descr="http://imgc.allpostersimages.com/images/P-473-488-90/60/6060/8R6D100Z/posters/mischa-richter-man-looking-in-mirror-and-saying-ha-and-in-the-mirror-is-the-reflection-new-yorker-cartoon.jpg"/>
          <p:cNvPicPr/>
          <p:nvPr/>
        </p:nvPicPr>
        <p:blipFill>
          <a:blip r:embed="rId2"/>
          <a:stretch/>
        </p:blipFill>
        <p:spPr>
          <a:xfrm>
            <a:off x="4952880" y="2514600"/>
            <a:ext cx="38196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380880" y="41144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Recognition of the student as the prime focus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Mutual respect and collaboration among adults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An atmosphere of conscious caring 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Coaching Climate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636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  <p:sp>
        <p:nvSpPr>
          <p:cNvPr id="637" name="TextBox 5"/>
          <p:cNvSpPr/>
          <p:nvPr/>
        </p:nvSpPr>
        <p:spPr>
          <a:xfrm>
            <a:off x="304920" y="274320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Script MT Bold"/>
              </a:rPr>
              <a:t>Refers to the impressions, feelings and expectations of the school community.  A positive climate requires: </a:t>
            </a:r>
            <a:endParaRPr b="0" lang="en-US" sz="28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/>
          </p:nvPr>
        </p:nvSpPr>
        <p:spPr>
          <a:xfrm>
            <a:off x="228600" y="4114800"/>
            <a:ext cx="51055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Simply, climate is about atmosphere and culture is about time-honored tradition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Coaching Culture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640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  <p:sp>
        <p:nvSpPr>
          <p:cNvPr id="641" name="TextBox 6"/>
          <p:cNvSpPr/>
          <p:nvPr/>
        </p:nvSpPr>
        <p:spPr>
          <a:xfrm>
            <a:off x="228600" y="28195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Script MT Bold"/>
              </a:rPr>
              <a:t>This is a broader term that encompasses school climate and the rituals, values, assumptions and beliefs that give the school its identity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</p:txBody>
      </p:sp>
      <p:pic>
        <p:nvPicPr>
          <p:cNvPr id="642" name="Picture 7" descr=""/>
          <p:cNvPicPr/>
          <p:nvPr/>
        </p:nvPicPr>
        <p:blipFill>
          <a:blip r:embed="rId2"/>
          <a:stretch/>
        </p:blipFill>
        <p:spPr>
          <a:xfrm>
            <a:off x="6248520" y="3657600"/>
            <a:ext cx="21333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228600" y="24379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Leaders are trusting (servant leaders)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Entire staff is focused on students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Coaching flows in all directions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Participants are seeking precision, refinement &amp;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mastery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Teachers are/become passionate &amp; energized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Learning occurs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More shared/effective decisions are made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The district has a common coaching framework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Characteristics of a </a:t>
            </a:r>
            <a:br>
              <a:rPr sz="4200"/>
            </a:b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Coaching Culture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645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2:41:58Z</dcterms:created>
  <dc:creator>User</dc:creator>
  <dc:description/>
  <dc:language>en-US</dc:language>
  <cp:lastModifiedBy>Chad Evans</cp:lastModifiedBy>
  <dcterms:modified xsi:type="dcterms:W3CDTF">2012-04-05T18:09:29Z</dcterms:modified>
  <cp:revision>130</cp:revision>
  <dc:subject/>
  <dc:title>Slide 1</dc:title>
</cp:coreProperties>
</file>